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CA5-13E6-403B-AA2E-F55E7E43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35C-104D-4EB7-A57D-43853BC6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565-8AE0-4E95-A62A-892A47E3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1D0-62E5-4BEB-9FAD-6BA7FCD9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69C-C973-410F-9BF2-EE876F44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93B-E846-4BEB-A6FE-B6747280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8C9-5A3F-4B75-BEBA-9974A3DF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E90-764A-45C3-A26C-68491862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8EC-D582-464B-B6E0-7A906811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241-1AB0-4D5A-B963-C4211428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F5E-20C3-423E-AE1C-DDD1FB3D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1BB-B1E6-4303-B00F-5945979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276D-AF24-48FD-A613-FAD383616AF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5s5EvhHy7eQ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bay.ca/sch/i.html?rt=nc&amp;LH_PrefLoc=2&amp;LH_BIN=1&amp;_nkw=camera%20tripod&amp;_ds=1&amp;_fcid=2&amp;_fln=1&amp;_localstpos=M6N5G3&amp;_sc=1&amp;_sop=15&amp;_stpos=M6N5G3&amp;_trksid=p3286.c0.m283&amp;gbr=1" TargetMode="External"/><Relationship Id="rId2" Type="http://schemas.openxmlformats.org/officeDocument/2006/relationships/hyperlink" Target="http://www.dealextreme.com/p/universal-clamp-mount-for-tripods-holds-up-to-3-8cm-thick-objects-14150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bay.ca/sch/i.html?_nkw=bluetooth+adapter&amp;_sacat=0&amp;_stpos=M6N5G3&amp;LH_BIN=1&amp;_sop=15&amp;gbr=1&amp;LH_PrefLoc=2&amp;_dmpt=Apparel_Merchandise&amp;_odkw=mic+clamp&amp;_osacat=0&amp;_trksid=p3286.c0.m270.l1313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imoteproject.com/index.php?action=downloads;sa=view;down=34" TargetMode="External"/><Relationship Id="rId2" Type="http://schemas.openxmlformats.org/officeDocument/2006/relationships/hyperlink" Target="http://www.uweschmidt.org/wiimote-whiteboard" TargetMode="External"/><Relationship Id="rId3" Type="http://schemas.openxmlformats.org/officeDocument/2006/relationships/hyperlink" Target="http://www.uweschmidt.org/wiimote-whiteboard" TargetMode="External"/><Relationship Id="rId4" Type="http://schemas.openxmlformats.org/officeDocument/2006/relationships/hyperlink" Target="http://www.smoothboard.net/register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0000"/>
                </a:solidFill>
                <a:latin typeface="Comic Sans MS"/>
              </a:rPr>
              <a:t>An Intro </a:t>
            </a:r>
            <a:br>
              <a:rPr sz="4400"/>
            </a:br>
            <a:r>
              <a:rPr b="0" i="1" lang="en-CA" sz="4400" spc="-1" strike="noStrike">
                <a:solidFill>
                  <a:srgbClr val="000000"/>
                </a:solidFill>
                <a:latin typeface="Comic Sans MS"/>
              </a:rPr>
              <a:t>to</a:t>
            </a:r>
            <a:br>
              <a:rPr sz="4400"/>
            </a:br>
            <a:r>
              <a:rPr b="0" i="1" lang="en-CA" sz="4400" spc="-1" strike="noStrike">
                <a:solidFill>
                  <a:srgbClr val="000000"/>
                </a:solidFill>
                <a:latin typeface="Comic Sans MS"/>
              </a:rPr>
              <a:t> WiiMote White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By Erion and Rink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003640" y="4005360"/>
            <a:ext cx="3395880" cy="2371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tro to the Wii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pen Source code from Johnny Chung Lee, Carnegie Mellon Univers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ideo: </a:t>
            </a:r>
            <a:r>
              <a:rPr b="0" lang="en-CA" sz="2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5s5EvhHy7eQ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cipe for a Wii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 (or 2) Wii Rem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riginal Wii Remo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Wii Motion Plus Remote pre - Nov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Post Nov-2011 Wii Motion Plus remotes will not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PC recognizes as RVL-CNT-01-TR instead of RVL-CNT-0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Code under battery cover  says LMB-RVL-WR followed by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Z-C4 or Z-C6 or C-C4 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) Clips and St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Stand Source: </a:t>
            </a:r>
            <a:r>
              <a:rPr b="0" lang="en-CA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ba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Clip source: Ebay or </a:t>
            </a:r>
            <a:r>
              <a:rPr b="0" lang="en-CA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6804000" y="1557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4"/>
          <a:stretch/>
        </p:blipFill>
        <p:spPr>
          <a:xfrm>
            <a:off x="4211640" y="41497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5"/>
          <a:stretch/>
        </p:blipFill>
        <p:spPr>
          <a:xfrm>
            <a:off x="5940360" y="4149720"/>
            <a:ext cx="118116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6"/>
          <a:stretch/>
        </p:blipFill>
        <p:spPr>
          <a:xfrm>
            <a:off x="7451640" y="4149720"/>
            <a:ext cx="8953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cipe for a WiiBoard cnt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) A bluetooth adap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b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) An Infrared 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1908000" y="3789360"/>
            <a:ext cx="2303640" cy="1003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5796000" y="3860640"/>
            <a:ext cx="1944720" cy="93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5"/>
          <a:stretch/>
        </p:blipFill>
        <p:spPr>
          <a:xfrm>
            <a:off x="611280" y="5300640"/>
            <a:ext cx="1944720" cy="63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6"/>
          <a:stretch/>
        </p:blipFill>
        <p:spPr>
          <a:xfrm>
            <a:off x="3203640" y="5300640"/>
            <a:ext cx="1800000" cy="64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7"/>
          <a:stretch/>
        </p:blipFill>
        <p:spPr>
          <a:xfrm>
            <a:off x="5651640" y="5157720"/>
            <a:ext cx="16570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cipe for a WiiBoard cnt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) Whiteboard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Johny Chung Lee’s 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iiMote WhiteBoard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(Fre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Java WiiMote WhiteBoard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Fre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Needs alternative Bluetooth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GTK Python Whiteboard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Fre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Smooth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indows PC License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($29.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c PC License ($24.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indows Dongle License ($79.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cipe for a WiiBoard cnt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ptional Access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ii Sensor Bar (wirel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iiMote Rechargeable Battery P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ripod/Mic Stan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427040" cy="718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948360" y="2997360"/>
            <a:ext cx="1503360" cy="171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4716360" y="3789360"/>
            <a:ext cx="1676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Using Smooth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ideo: http://www.youtube.com/watch?v=YMJzVkCUCmI&amp;feature=player_embed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000" y="1267920"/>
            <a:ext cx="755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inger T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d T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’s Nex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ve Human-Machine Interactio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From Wikiped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CA" sz="2500" spc="-1" strike="noStrike">
                <a:solidFill>
                  <a:srgbClr val="000000"/>
                </a:solidFill>
                <a:latin typeface="Calibri"/>
              </a:rPr>
              <a:t>Johnny Chung Lee is a Human-Computer Interaction researcher currently working at Google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Admin\AppData\Local\Microsoft\Windows\Temporary Internet Files\Content.IE5\H6BD0IIO\MC900230510[1].wmf"/>
          <p:cNvPicPr/>
          <p:nvPr/>
        </p:nvPicPr>
        <p:blipFill>
          <a:blip r:embed="rId1"/>
          <a:stretch/>
        </p:blipFill>
        <p:spPr>
          <a:xfrm>
            <a:off x="6659640" y="1773360"/>
            <a:ext cx="20890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8:16:41Z</dcterms:created>
  <dc:creator>Admin</dc:creator>
  <dc:description/>
  <dc:language>en-US</dc:language>
  <cp:lastModifiedBy>Admin</cp:lastModifiedBy>
  <dcterms:modified xsi:type="dcterms:W3CDTF">2012-04-16T23:05:48Z</dcterms:modified>
  <cp:revision>11</cp:revision>
  <dc:subject/>
  <dc:title>Slide 1</dc:title>
</cp:coreProperties>
</file>